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31A5-874F-4F3F-8E0A-F107D168C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DADB-3F40-48E7-8296-E423CBE14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3EB7-7557-412D-9318-3DA7DC120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A2DD-5857-4165-93D1-4C46CDDEA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0FF1-D809-465A-9403-080D071A0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FC0C-8094-41B7-8CFF-198C4DA2C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B004-C62A-4CC0-98D3-746704826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5442-2465-4A59-96F0-2F2AA8E60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2E44-092A-4357-94BE-0F27F478C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F0DE-7190-4B1A-B57A-DA4296EEB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C729-DF6C-43EC-AE8B-5BAEA31DD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9BC2-FB87-4655-8464-69F00261D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0FF0-E120-42D9-AB1C-78ABE8B1F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5E62-3419-43BE-BBA5-23CA3D3B5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5C0A-3615-421F-A411-28D2F5406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90EC-2E91-4248-8ED1-174375828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7EFF-D4EF-45F6-B939-D0A9BD90E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5347-8FA6-4C9B-A78F-C3E1EF271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E101-FE5F-4D6D-950B-BE94E3832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74A9-8433-4904-84F3-8720541B0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1F39-0FD1-4995-A328-93DC224FB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6A25-9372-4F2F-B7AD-4AD16A330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6B5E-C3BD-43D5-ADA9-6B142F097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9620-1BDA-4048-85DA-EAC39A80D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77B6-6EBB-47ED-9458-EE6D69E12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6A5-A19C-44A7-819F-BF5C82AC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C17-EF96-4D61-9066-5127698A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3CA-D8B7-45AF-B702-720A9332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7DA-A27D-43C1-979F-4907CFB0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B90-6863-44F2-823B-4E29BEF6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FBC-821F-4DDE-8E8A-A6527A28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B64-B3B6-415B-927F-D4C54862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596-2257-47B8-9734-B9213F5F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13B-0116-454C-B131-A88EB42B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0F8-654E-4F0A-8E42-95059979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642-B1E2-4202-B31B-DE92B55B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F16-FCCB-4492-9B85-BFC162E0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702F-C925-4E45-8E8F-4EFCBFC11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lutonium_ring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en.wikipedia.org/wiki/Image:Plutonium_ring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hapter 20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uclear Energ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much do we u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- about 15 - 19% of our energy is nucl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e - about 78 %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400 nuclear powerplants worldw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4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ew plants, just expanding output of existing 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ocessing spent fuel for breeder reactors made pure plutonium along the w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g hazard to monitor to make sure it never gets in wrong h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A ring of weapons-grade electrorefined plutonium, with 99.96% purity. This 5.3 kg ring is enough plutonium for use in a modern nuclear weapon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88620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3809880" y="5299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114800" y="38862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5.3 kg ring is enough plutonium for use in a modern nuclear weap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uclear Non Proliferation Treaty of 196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ys countries wanting nuclear power must sign a treaty to not make nuclear weapons.  Lacks enforcement, not eff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77 Carter banned civilian reprocessing of nuclear spent fuels in US so no Pu could be recovered due to terrorist f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81 President Reagan lifted the ban and urged reproces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ertainty of future gov. policy and huge expense has halted effo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ivilian reprocessing in US 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: has been for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, fast reactors could run 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al reactor waste till all used up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also run off weapons grade Pu to get rid of 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can run off its own spent fu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RadiationSymbol"/>
          <p:cNvPicPr/>
          <p:nvPr/>
        </p:nvPicPr>
        <p:blipFill>
          <a:blip r:embed="rId1"/>
          <a:stretch/>
        </p:blipFill>
        <p:spPr>
          <a:xfrm>
            <a:off x="6629400" y="4800600"/>
            <a:ext cx="19144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s and R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44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Rad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mount of radiation deposited in a gram of tiss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R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biological effect of that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cers/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ye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tus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in damage…many m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 cell and tissue damage/death and DNA mu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we do with Radioactive Was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ocket it to the sun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oot it to the moon? (Expensive and hope no accident in the take off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ep sea / ocean floor storage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Hope it doesn’t leak, violation of intl. treat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hip out of country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ethics, terrorism, transportation accidents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cycle using reprocessing?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up and running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ast reactors to be built over existing, aging thermal reac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5 years aw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uclear Waste Policy Act of 198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mendment in 198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ay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level waste must be disposed of in a deep underground geologic waste reposi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now its in 126 separate sites around the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052"/>
          <p:cNvSpPr/>
          <p:nvPr/>
        </p:nvSpPr>
        <p:spPr>
          <a:xfrm>
            <a:off x="609480" y="304920"/>
            <a:ext cx="8153640" cy="2743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w-leve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waste can remain on site until decay is complete and then ship off to hazardous waste fac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 can be buried in geologically safe, near surface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f the 6 low level burial sites, several are leaking and polluting ground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have been forced to cl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2 remain open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ew one is proposed for So. Cal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world_map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838080" y="4572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ld’s Nuclear Power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 Level Was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y very deep (at least 2000 f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t beds prefer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ble geologic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rainf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or no groundwater i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OOOOOOOOOOOOONG TI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ste Isolation Pilot Plant (WIP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600200" y="1905120"/>
            <a:ext cx="6400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50 f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 ft thick salt 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for 200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 next 35 yrs expected to receive 37,000 ship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te estimated to be radioactive for 250,000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the high level Radioactive Waste from Commercial Reactor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ucca Mount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Yucca"/>
          <p:cNvPicPr/>
          <p:nvPr/>
        </p:nvPicPr>
        <p:blipFill>
          <a:blip r:embed="rId2"/>
          <a:stretch/>
        </p:blipFill>
        <p:spPr>
          <a:xfrm>
            <a:off x="2895480" y="289548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 flipH="1">
            <a:off x="5334120" y="4419720"/>
            <a:ext cx="259056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162920" y="2666880"/>
            <a:ext cx="17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planning and devlp stages since 19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09480" y="32004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est population = 14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ucca Mountain is unlikely to ever open as a storage site for nuclear waste largely because the politics were flawed at the st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ate has fought the project for two decades, finding allies in science and environmental quarters, and elsewhe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 billion $ so far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 2007: Urged to “Stop digging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to open possibly in 20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Fu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160" y="167652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h/Cheney energy plan called for an increase of nuclear pow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er, safer plants are being resear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uropean countries are phasing out of nuclear power (Germany in next 25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us? 4 new plants in the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5707080" y="6019920"/>
            <a:ext cx="36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0"/>
            <a:ext cx="1752480" cy="14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</a:rPr>
              <a:t>Fig 19.5  Main components of a nuclear rea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F19_5"/>
          <p:cNvPicPr/>
          <p:nvPr/>
        </p:nvPicPr>
        <p:blipFill>
          <a:blip r:embed="rId2"/>
          <a:stretch/>
        </p:blipFill>
        <p:spPr>
          <a:xfrm>
            <a:off x="1828800" y="100080"/>
            <a:ext cx="7315200" cy="6757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28"/>
          <p:cNvSpPr/>
          <p:nvPr/>
        </p:nvSpPr>
        <p:spPr>
          <a:xfrm>
            <a:off x="2895480" y="59436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1f39"/>
                </a:solidFill>
                <a:latin typeface="Times New Roman"/>
              </a:rPr>
              <a:t>Water transfers heat energy </a:t>
            </a:r>
            <a:r>
              <a:rPr b="0" lang="en-US" sz="2400" spc="-1" strike="noStrike" u="sng">
                <a:solidFill>
                  <a:srgbClr val="fb1f39"/>
                </a:solidFill>
                <a:uFillTx/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b1f39"/>
                </a:solidFill>
                <a:latin typeface="Times New Roman"/>
              </a:rPr>
              <a:t>serves as a moderator to slow neutrons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6019920" y="6294600"/>
            <a:ext cx="268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28600" y="0"/>
            <a:ext cx="853452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</a:rPr>
              <a:t>Comparison of a fossil fuel power plant and a nuclear power plant with a boiling water rea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F19_4"/>
          <p:cNvPicPr/>
          <p:nvPr/>
        </p:nvPicPr>
        <p:blipFill>
          <a:blip r:embed="rId2"/>
          <a:stretch/>
        </p:blipFill>
        <p:spPr>
          <a:xfrm>
            <a:off x="7632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pound of uranium (size of a baseball) is equivalent to a million gallons of gas (would fill a 5 story building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subs and aircraft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n’t contribute to acid rain or air pollution in gen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produces no CO2 so no contribution to 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ar Was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Level Radioactive 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nt fuel and reprocessing 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uranic: lower grade radioactiv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066680" y="1981080"/>
            <a:ext cx="7696440" cy="327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4572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nt” fuel is still high in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95% energ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’s in spent fu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ghly radioactive waste to dis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fissioned uranium (U – 238) which c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re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ansuranic waste (beyond uraniu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lend of Pu isotopes and othe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manmade radioactive element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heavier than 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s waste can be radioactive for tens of thousands of yea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uranic waste is also produced during nuclear fuel assembly; during nuclear weapons research, production, and cleanup; and as a result of reprocessing spent nuclear fu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8" descr="Stacked drums of transuranic waste in Panel 1 contain waste with mostly alpha emitting radionuclides.  While some gamma and beta emitters are present, their contribution to the total is small.  "/>
          <p:cNvPicPr/>
          <p:nvPr/>
        </p:nvPicPr>
        <p:blipFill>
          <a:blip r:embed="rId1"/>
          <a:stretch/>
        </p:blipFill>
        <p:spPr>
          <a:xfrm>
            <a:off x="0" y="342900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The Waste Isolation Pilot Plant uses a continuous miner to carve disposal rooms out of the Permian Salt Formation, nearly a half mile below the surface."/>
          <p:cNvPicPr/>
          <p:nvPr/>
        </p:nvPicPr>
        <p:blipFill>
          <a:blip r:embed="rId2"/>
          <a:stretch/>
        </p:blipFill>
        <p:spPr>
          <a:xfrm>
            <a:off x="4648320" y="4111560"/>
            <a:ext cx="4267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eder (fast) Re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lower grade U 238 (more abund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238 decays into Plutonium 239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expen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“spent” fuel from thermal reactors almost indefini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58:46Z</dcterms:created>
  <dc:creator>santiago high school</dc:creator>
  <dc:description/>
  <dc:language>en-US</dc:language>
  <cp:lastModifiedBy>Teri Osborne</cp:lastModifiedBy>
  <cp:lastPrinted>2003-01-31T18:58:26Z</cp:lastPrinted>
  <dcterms:modified xsi:type="dcterms:W3CDTF">2012-01-23T07:45:07Z</dcterms:modified>
  <cp:revision>36</cp:revision>
  <dc:subject/>
  <dc:title>Chapter 18 Nuclear Energy</dc:title>
</cp:coreProperties>
</file>